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FB9F-0AED-49A6-B44C-D0A36E05C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347D-C52C-4B44-885F-B89F8DADB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272-5DBD-48D7-ADCD-42AB81F4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DF7-1FDE-4236-AD33-E6F1C307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BBA-8279-41AB-9BCB-F1AC8D6F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2DE-309A-480D-B6DC-7DA6306E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1E4-7045-4EE3-921A-7B2EA288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9CE-A2F7-465E-BD1E-F7614BBB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D2D-1DC5-4C2D-8586-0AC024B8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15D-B972-4FFD-8A24-9C4FE6DB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51C-3E21-4D5B-AA50-B5B525CE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968-8553-4E8E-9796-17E8F1C0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4C6-1EE1-4710-B681-94B346D4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A3D-F21D-4F27-965B-457DFFF7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BC8B-7AD9-4EFD-8BC9-28412FFE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pyright.gov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C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OPYRIGHT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AND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F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AIR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U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640" y="4565160"/>
            <a:ext cx="66088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A B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IRD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L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IVE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H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ER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OPYRIGH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Something is copyrighted if it is fixed in a tangible form of expres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Don't infringe copyrigh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Get permission from the owner of the copyright to avoid infring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For more information on copyrights ask you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eacher...or go to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copyright.gov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AIR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U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hen a copyright term ends it is put into the public domain and is fair u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Fair use is when anyone can use material in the public domain freely without worry about copyrigh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You can use .gov websites as fair use for gettin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pictures...like this on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an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NASA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641680" y="4978440"/>
            <a:ext cx="2870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T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HE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E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N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Danielle Di Fabio</cp:lastModifiedBy>
  <dcterms:modified xsi:type="dcterms:W3CDTF">2010-05-18T04:03:04Z</dcterms:modified>
  <cp:revision>1</cp:revision>
  <dc:subject/>
  <dc:title>PowerPoint Presentation</dc:title>
</cp:coreProperties>
</file>